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0B1-6EBA-4CFE-A006-37D250D0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829-7D40-4D15-AB1B-3001545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3B6-B14F-47B8-9EA2-35698C42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428-48EB-49BC-8B5D-56F86181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7C9-1405-4CF1-806B-EC66F129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FB90-AC4F-4EB3-93B3-5DE58AA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650F-6459-4DFC-956E-E884C5D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7BA-6E68-4997-9A52-0E62D4D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878-0406-4A2C-90BB-B7FE836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4BB-C89B-4A67-A6F6-58829E0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8A9-F54E-496A-9BB0-B1C9925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CF5-9A7F-4A3E-A201-C495CA4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2505-08FC-478F-A667-CF366E1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C14-BEEA-4C4B-923F-77FE57D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0D1-81FE-47EA-9DD4-AE6F94FE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0107-CF15-4457-BCB5-9EA157A9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DFB-9BDA-4B56-AF5F-06FE8B66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585-9CFA-40D4-9046-7F66F58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2B5-95AA-4B23-B120-7DC36B6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49B-7B83-4C3B-865F-28E0123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0C8-F65F-48C8-B0C9-C66559E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303-C586-4F8D-A0ED-4C3DE54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CBE-B383-4E01-8335-B08C8B4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95E-68A7-479B-88DC-FE046F2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BE9B-F0E4-4066-91EE-284005A8B98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621-9357-421C-BD29-61A6068D92D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غفران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أللهم احفظ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1916280"/>
            <a:ext cx="41403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قلت للرب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ك سيّ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ما عد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ا خيرَ ل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064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جعلتُ الله دوماً نُصْبَ عين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رفتُ الله دوما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ن يميني لئلاّ أزِ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9638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ذلك فرح قلبي وابتهجت نفسي وجسدي أيض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رقد على الدوا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210816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ملأني فرحاً بلقي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لى يمي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نعيمي على الدوا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Charbel Azar</cp:lastModifiedBy>
  <dcterms:modified xsi:type="dcterms:W3CDTF">2002-07-17T11:29:30Z</dcterms:modified>
  <cp:revision>4</cp:revision>
  <dc:subject/>
  <dc:title>PowerPoint Presentation</dc:title>
</cp:coreProperties>
</file>